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CBE-88A2-4F37-9FBD-A8B7C766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659-90C6-4A43-B327-D3C6CD3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B52-B00A-4DE7-B74B-6D5907CA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13A-04C0-4015-B303-94BFA399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35F1-0590-41D7-85E1-B0D1D390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0F71-253B-4C68-9DDE-96DB35EA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63B-02D2-4BF8-A263-6FC48F5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3E9D-065D-45B0-88BB-E0E60276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774-C561-47D5-946E-EA966F3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247F-2B96-4EDB-AE79-7A19ED9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82A-3B4E-4D4F-AE51-EA4D9699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49A-6E9D-446B-BF48-02F0F75B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992D-DC9C-4A9C-B79A-18A575F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C109-BED3-4501-A720-F0DD275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5290-1452-4DEF-8495-CBA223F6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595-79B6-4518-AB65-48E5A6B6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43E1-C04B-4701-A965-902BA2E6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A73-3ED7-443D-8883-C334E255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0D5-55A7-4757-8F96-D421047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29E-7083-4590-9901-58A7EEF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434-A9F2-40C2-A21B-8CBE0797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B34-1E00-435E-B6D3-B4FC7F3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FF8-A6B2-4DD7-A963-708EE3D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485-37FC-4B16-A4DA-37DF4E0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57E8-E6D9-4934-BE56-39F901C55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74C-9E1D-4CD9-9330-0CF1C0B07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eorema lui Thales</a:t>
            </a:r>
            <a:br>
              <a:rPr sz="5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ZUL 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77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pa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roş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egledi Krist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Sebestyen Szabol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03640" y="3789360"/>
            <a:ext cx="352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003640" y="765000"/>
            <a:ext cx="280836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51640" y="549360"/>
            <a:ext cx="295272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1800" y="16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440" y="378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312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836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1640" y="306864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5600" y="692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14520" y="5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256536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8680" y="270828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xxx</cp:lastModifiedBy>
  <dcterms:modified xsi:type="dcterms:W3CDTF">2011-02-24T22:03:41Z</dcterms:modified>
  <cp:revision>5</cp:revision>
  <dc:subject/>
  <dc:title>Slide 1</dc:title>
</cp:coreProperties>
</file>